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gif" ContentType="image/gif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gif" ContentType="image/gif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FDA5-B720-4C7D-B038-8181C3B90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392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5920"/>
            <a:ext cx="85392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FC83-6F1B-46ED-901E-7BAD8DD05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592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480" y="398592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4B22-EF74-4CC1-B253-E4AE1DE96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8880" y="167616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167616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592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8880" y="398592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398592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DBBF-A689-4BDA-AF1E-E7D9A0930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A98E1-638D-49BC-AE52-16A41EDDF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39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954D6-FC75-4BE5-81AA-2C685C739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392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18CDE-903E-4A00-9DC5-8CC064A96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2E1C4-94D3-4E53-BDC8-6EAD2B932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39660-7676-490F-A8EE-6EBECB744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174600"/>
            <a:ext cx="8508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73E9A-1687-4889-93DF-0558D741B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592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26923-5B83-40A0-9877-2D39B760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39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11DE-0BEE-4952-85B3-BC570CAB3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480" y="398592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47B42-E81B-46B5-A394-44EB05DA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5920"/>
            <a:ext cx="85392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F5382-0F86-4ACD-86EF-CC26A760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392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5920"/>
            <a:ext cx="85392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F6493-AF23-42D6-A42E-BAF259374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592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480" y="398592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F1531-BAFD-401A-8F25-75AA8AC01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8880" y="167616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167616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592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8880" y="398592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98592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E430B-30FF-4003-ADE2-0CB35F16F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392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E530-CFD8-49D9-B4F2-A7EB846B8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BE4D-F080-4DDD-B036-E95231989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F117-BF23-401B-8E77-43B5D39E3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174600"/>
            <a:ext cx="8508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5093-2CFD-4297-BA3F-3F5463F40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592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AE88-4C3A-4C09-A179-11886F45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480" y="398592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1207-80E1-4D97-8D64-1DA4DB3A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5920"/>
            <a:ext cx="85392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49F0-0BE3-449D-BAFB-E4489A66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392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245280"/>
            <a:ext cx="22842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28456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CAEF5FD-1578-4B3E-BFF0-B67A54C09AF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09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560" y="6245280"/>
            <a:ext cx="22842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28456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325F95-E18F-48A7-93E7-08D110D5F91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b7e7ff"/>
                </a:solidFill>
                <a:latin typeface="Haettenschweiler"/>
              </a:rPr>
              <a:t>Я люблю тебя слышишь парнишк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771640" y="2708280"/>
            <a:ext cx="3529080" cy="24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b7e7ff"/>
                </a:solidFill>
                <a:latin typeface="Arial"/>
              </a:rPr>
              <a:t>Я люблю тебя даже во сне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1676520"/>
            <a:ext cx="85406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835280" y="1773360"/>
            <a:ext cx="626580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b7e7ff"/>
                </a:solidFill>
                <a:latin typeface="Arial"/>
              </a:rPr>
              <a:t>Даже в школе за партой и книжкой я мечтаю всегда о тебе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520"/>
            <a:ext cx="85406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979640" y="1773360"/>
            <a:ext cx="4329000" cy="47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b7e7ff"/>
                </a:solidFill>
                <a:latin typeface="Arial"/>
              </a:rPr>
              <a:t>Вижу волосы светлого цвет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676520"/>
            <a:ext cx="85406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882880" y="1628640"/>
            <a:ext cx="3378240" cy="434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b7e7ff"/>
                </a:solidFill>
                <a:latin typeface="Arial"/>
              </a:rPr>
              <a:t>И задумчивый ласковый взгляд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676520"/>
            <a:ext cx="85406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771640" y="1628640"/>
            <a:ext cx="331164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b7e7ff"/>
                </a:solidFill>
                <a:latin typeface="Arial"/>
              </a:rPr>
              <a:t>И стучит мое сердце в груд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676520"/>
            <a:ext cx="85406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627280" y="1700280"/>
            <a:ext cx="3600360" cy="446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b7e7ff"/>
                </a:solidFill>
                <a:latin typeface="Arial"/>
              </a:rPr>
              <a:t>Почему ты не хочешь ответить, когда рядом грустят о тебе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676520"/>
            <a:ext cx="85406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700360" y="1628640"/>
            <a:ext cx="3551040" cy="44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b7e7ff"/>
                </a:solidFill>
                <a:latin typeface="Arial"/>
              </a:rPr>
              <a:t>Ты идешь, и улыбка сияет на твоем безмятежном лице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700360" y="1700280"/>
            <a:ext cx="366084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b7e7ff"/>
                </a:solidFill>
                <a:latin typeface="Arial"/>
              </a:rPr>
              <a:t>Как ты можешь смеяться, когда рядом грустят о тебе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676520"/>
            <a:ext cx="85406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203640" y="1700280"/>
            <a:ext cx="4176720" cy="4398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ksana</dc:creator>
  <dc:description/>
  <dc:language>en-US</dc:language>
  <cp:lastModifiedBy>Oksana</cp:lastModifiedBy>
  <cp:revision>0</cp:revision>
  <dc:subject/>
  <dc:title>Я люблю тебя слышишь парнишка</dc:title>
</cp:coreProperties>
</file>